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C6B-6202-44FA-AAC3-865D97AB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0C6-AECD-44D4-B1C2-424DDE21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BA0-9470-4559-9C83-CB7A3ACD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B4D-49F1-4721-858C-2B175D1B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D714-72F0-4C4D-8B2E-A3E77197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DC7F-86C7-4EFC-A37C-FB11DCC8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B344-0834-46B2-9E57-CB6AF80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0D1E-7342-4E4C-A0F3-DDEB99CE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22FA-8B56-49EC-9138-CC0887A6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7771-571C-4EF0-9E74-BA20F714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73C7-0AAA-413D-9FD3-261F20D0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C0A-54FC-46EA-B934-3C1E7861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2088-AFDB-4B30-94F2-F0D06D87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74C0-02BF-4C0E-B73A-82E9D1E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56C2-EFCC-448E-A805-1D4B1C82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BACD-07AD-4ED8-9EBF-E93FE873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0AA9-6AF6-4E58-8A17-F7FD6456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F9A-FDA7-4A65-B8FA-F55D858D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694-D2FD-48BD-8104-799A75ED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316-B789-483D-A6A8-7E11F75E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D08-6E3D-4C92-BB67-0B9395B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F15-C5E1-40AB-9B60-4DFDDAC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425-3394-449C-BA13-F814B54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8E3-FFBB-478F-88CD-3EAA98A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5440" indent="-3816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9160" indent="-3283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9600" indent="-2934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76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C344-53AC-4403-ACDB-5FA6A15C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5C50-F4DF-40C0-8700-9B78B6348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116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508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questioning.org/module3/slamdunk6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5401"/>
                </a:solidFill>
                <a:latin typeface="Futura"/>
              </a:rPr>
              <a:t>Slam Dunk</a:t>
            </a:r>
            <a:endParaRPr b="0" lang="en-US" sz="8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to create a les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The 6 Step SDL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load a PowerPoint template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http://questioning.org/module3/slamdunk6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by filling ou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a great Web site that has rich information resources to match your lesson and describe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Tw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an essential question that could be explored using the site you listed on Page Two and place it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ine the learning steps you want the students to follow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e an assessment activity and place it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enrichment activities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F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No Time SDL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curriculum content and State Curriculum goals worthy of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high quality digital content (Image, Numerical Data or Tex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one page lesson directing students to source and outlining expectations for a challenging thinking task using NAEP items as a guide from The NAEP Questions Tool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http://nces.ed.gov/nationsreportcard/itmr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1:48:04Z</dcterms:created>
  <dc:creator>CMCSS</dc:creator>
  <dc:description/>
  <dc:language>en-US</dc:language>
  <cp:lastModifiedBy>CMCSS</cp:lastModifiedBy>
  <dcterms:modified xsi:type="dcterms:W3CDTF">2008-06-19T02:48:37Z</dcterms:modified>
  <cp:revision>6</cp:revision>
  <dc:subject/>
  <dc:title>Slam Dunk</dc:title>
</cp:coreProperties>
</file>